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1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2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3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4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" name=""/>
          <p:cNvSpPr/>
          <p:nvPr/>
        </p:nvSpPr>
        <p:spPr>
          <a:xfrm>
            <a:off x="1079640" y="4863960"/>
            <a:ext cx="10818720" cy="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7280" y="1130040"/>
            <a:ext cx="58676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47280" y="264132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1560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7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5960" indent="-399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9560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5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5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5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1980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040" y="26413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8000"/>
          </a:bodyPr>
          <a:p>
            <a:pPr marL="63504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09080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54656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0023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91000"/>
          </a:bodyPr>
          <a:p>
            <a:pPr marL="74088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2726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80432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33604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body"/>
          </p:nvPr>
        </p:nvSpPr>
        <p:spPr>
          <a:xfrm>
            <a:off x="914400" y="1219320"/>
            <a:ext cx="11175840" cy="73152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89000"/>
          </a:bodyPr>
          <a:p>
            <a:pPr marL="75996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27980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marL="180000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marL="231984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8000"/>
          </a:bodyPr>
          <a:p>
            <a:pPr marL="63504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09080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54656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0023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772400" y="2819160"/>
            <a:ext cx="4317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65000"/>
          </a:bodyPr>
          <a:p>
            <a:pPr marL="5292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9090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2888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16686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5016600"/>
            <a:ext cx="11175840" cy="12700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335232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7696080"/>
            <a:ext cx="11175840" cy="13082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47280" y="2057400"/>
            <a:ext cx="5854680" cy="28576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47280" y="5067000"/>
            <a:ext cx="5854680" cy="26924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8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1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2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3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4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5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6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1000"/>
          </a:bodyPr>
          <a:p>
            <a:pPr marL="77688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30860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marL="184032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marL="237204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7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65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695916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06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7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Germanium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50" name=""/>
          <p:cNvSpPr/>
          <p:nvPr/>
        </p:nvSpPr>
        <p:spPr>
          <a:xfrm>
            <a:off x="7808040" y="7930800"/>
            <a:ext cx="542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By: Stefani A. Wagoner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Isotopes And Ions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1612800" y="2781360"/>
            <a:ext cx="5224680" cy="543564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7308720" y="4571640"/>
            <a:ext cx="3740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+4 Ionic Charg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Element Symbol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984040" y="2336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800" spc="-1" strike="noStrike">
                <a:solidFill>
                  <a:srgbClr val="000000"/>
                </a:solidFill>
                <a:latin typeface="Gill Sans"/>
              </a:rPr>
              <a:t>GE</a:t>
            </a:r>
            <a:endParaRPr b="0" lang="en-US" sz="28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6" name=""/>
          <p:cNvSpPr/>
          <p:nvPr/>
        </p:nvSpPr>
        <p:spPr>
          <a:xfrm>
            <a:off x="4282200" y="2742840"/>
            <a:ext cx="443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Atomic Mass:  72.6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7" name=""/>
          <p:cNvSpPr/>
          <p:nvPr/>
        </p:nvSpPr>
        <p:spPr>
          <a:xfrm>
            <a:off x="4187160" y="7137000"/>
            <a:ext cx="462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Atomic Number: 32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Discoverer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269720" y="27936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emens Winkler discovered Germanium in Germany in 1886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Uses for Germanium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ood Semiconducto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ndustries use germanium in semiconducting devices such as Diodes and Solar Batteri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Germanium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8920" y="2577600"/>
            <a:ext cx="7099200" cy="181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Germanium is a hard, brittle, grayish white metalloid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2"/>
          <a:stretch/>
        </p:blipFill>
        <p:spPr>
          <a:xfrm>
            <a:off x="8191440" y="4584600"/>
            <a:ext cx="34038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Periodic Table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2"/>
          <a:stretch/>
        </p:blipFill>
        <p:spPr>
          <a:xfrm>
            <a:off x="736560" y="3048120"/>
            <a:ext cx="5343480" cy="365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6562800" y="3479760"/>
            <a:ext cx="568944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As you can see I circled where Germanium is found on the periodic table. It is in group 14, and in period 4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Structure of the Atom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2400480" y="3594240"/>
            <a:ext cx="3936960" cy="379728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7845480" y="3695760"/>
            <a:ext cx="351792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As you can see there is 32 Protons and 41 Neutrons in the element, Germanium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69720" y="-711360"/>
            <a:ext cx="10464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Santa Fe LET"/>
                <a:ea typeface="Santa Fe LET"/>
              </a:rPr>
              <a:t>Bibliography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69720" y="952200"/>
            <a:ext cx="10464840" cy="88009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0000"/>
          </a:bodyPr>
          <a:p>
            <a:pPr marL="814320" indent="-4716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anta Fe LET"/>
                <a:ea typeface="Santa Fe LET"/>
              </a:rPr>
              <a:t>"Periodic Table of the Elements." Prairie Hills Middle School Student Handbook 2009-2010 Aug. 2009: 109. Print.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814320" indent="-4716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anta Fe LET"/>
                <a:ea typeface="Santa Fe LET"/>
              </a:rPr>
              <a:t>"Germanium." World Book. Student ed. 2009. World Book. Web. 23 Nov. 2009.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814320" indent="-4716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anta Fe LET"/>
                <a:ea typeface="Santa Fe LET"/>
              </a:rPr>
              <a:t>Unknown. Germanium. N.d. None, Unknown. Google Images. Web. 23 Nov. 2009.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814320" indent="-4716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anta Fe LET"/>
                <a:ea typeface="Santa Fe LET"/>
              </a:rPr>
              <a:t>Unknown. Germanium Atom. N.d. None, Unknown. World Book. Web. 23 Nov. 2009.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814320" indent="-4716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anta Fe LET"/>
                <a:ea typeface="Santa Fe LET"/>
              </a:rPr>
              <a:t>Unknown. Germanium Atom. N.d. None, Unknown. Periodic Table of the Elements. Web. 23 Nov. 2009.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814320" indent="-4716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anta Fe LET"/>
                <a:ea typeface="Santa Fe LET"/>
              </a:rPr>
              <a:t>Unknown. Germanium Isotopes. N.d. None, Unknown. . Web. 23 Nov. 2009.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